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4C9-7F0A-4C76-BC93-DF0DF765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F71-C0FF-4F15-9DD1-80DB60E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FA3-637E-419C-B719-80C17CBE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BDA-86FC-4551-B6CE-54013EE4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9EF-39FA-4D65-B1E2-DEAC995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46B-5539-40DB-9B43-A92A2FFB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DB4-60A3-4B14-95AB-DBF1A1B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B01-3B53-43A7-BC2F-3E99AF8B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1A5-DE22-4410-96D5-D91BC7B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73E-3ABD-48E7-8772-A98C776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435-0791-495F-811A-09084AF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D0A-C2B9-4F4A-A082-A6F3FCE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B9B-2624-4E38-BD4F-34EFF25A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mix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7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rose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enter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gerbil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cents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enches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ske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hitch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cratche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ladie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700" spc="-1" strike="noStrike">
                <a:solidFill>
                  <a:srgbClr val="000000"/>
                </a:solidFill>
                <a:latin typeface="Arial"/>
              </a:rPr>
              <a:t>bought</a:t>
            </a:r>
            <a:endParaRPr b="0" lang="en-US" sz="2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probabl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cared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1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stood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sur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irdbath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de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cle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herself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lilies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purs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800" spc="-1" strike="noStrike">
                <a:solidFill>
                  <a:srgbClr val="000000"/>
                </a:solidFill>
                <a:latin typeface="Arial"/>
              </a:rPr>
              <a:t>puppies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perches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armie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teacher</cp:lastModifiedBy>
  <dcterms:modified xsi:type="dcterms:W3CDTF">2010-10-08T16:00:42Z</dcterms:modified>
  <cp:revision>28</cp:revision>
  <dc:subject/>
  <dc:title>king</dc:title>
</cp:coreProperties>
</file>